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chimes.wav" ContentType="audio/x-wav"/>
  <Override PartName="/ppt/media/laser.wav" ContentType="audio/x-wav"/>
  <Override PartName="/ppt/media/drumroll.wav" ContentType="audio/x-wav"/>
  <Override PartName="/ppt/media/arrow.wav" ContentType="audio/x-wav"/>
  <Override PartName="/ppt/media/applause.wav" ContentType="audio/x-wav"/>
  <Override PartName="/ppt/media/camera.wav" ContentType="audio/x-wav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499-76DA-455D-821C-04CFA162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2E4-A1D9-46E4-B5FF-BB6BF617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387-2AC0-4965-894D-B967B910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6AB-F970-4FDB-AC9D-567EAF3A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A509-613A-4A14-AFE1-0D3AD1BF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43B0-1837-429B-8648-6A2B78B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CCE-33B8-495E-84A0-3F8A735D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3D46-BE9C-426A-995E-3FC97E2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014-2896-4FC7-B42A-1E4FFD6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64E-DAB2-41E3-A6F6-751996D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D8B-1210-45BA-B3E1-6A64096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400-FABC-4963-9678-4F2BACF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C789-0480-4DDF-89DB-9DFD1C8B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2DE-9BAC-45B3-AB8D-3DBCF97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82E-95DE-488C-BF03-10195E08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B72E-5D30-4AF0-86FB-7AE60B88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745B-C4EA-4C04-B650-7BAAC411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AF4-848B-478F-A39E-FDBA43BC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69A-B5FE-49FE-96AE-4CB28616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0EE-E026-4022-BCFB-FA7AA2D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33C-833C-4F43-A188-18C7FD82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DFF-A705-4570-9B1E-1472C2C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818-C72E-4E8A-8426-D2400B6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5C3-0266-4DC5-861E-066650B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A7E-8070-41E8-927E-0345F9FCB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E3D-69F5-48B3-A6DD-508C90091F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onsonant Digraph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/Ph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sonant Digrap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onant digraphs are two (or three) letters that come together to make one sou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difference between blends and digraphs is that blends are two letters that make two sounds and digraphs make one sou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 /c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ch /c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 /s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 /w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 /t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lase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has the consonant digraph tch which makes the sound /ch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und it ou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 – a –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 –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520" y="365760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23920" y="441972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3505320"/>
            <a:ext cx="354240" cy="20772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191120"/>
            <a:ext cx="353880" cy="20772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1981440" cy="486000"/>
          </a:xfrm>
          <a:prstGeom prst="rightArrow">
            <a:avLst>
              <a:gd name="adj1" fmla="val 50000"/>
              <a:gd name="adj2" fmla="val 10192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2578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drumroll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i – 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– 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191120"/>
            <a:ext cx="353880" cy="20772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200400"/>
            <a:ext cx="353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495680"/>
            <a:ext cx="1981440" cy="486000"/>
          </a:xfrm>
          <a:prstGeom prst="rightArrow">
            <a:avLst>
              <a:gd name="adj1" fmla="val 50000"/>
              <a:gd name="adj2" fmla="val 10192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4100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i – 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– 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352680"/>
            <a:ext cx="9907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267080"/>
            <a:ext cx="9907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78240" y="3213000"/>
            <a:ext cx="35424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11480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956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486400"/>
            <a:ext cx="1981080" cy="485640"/>
          </a:xfrm>
          <a:prstGeom prst="rightArrow">
            <a:avLst>
              <a:gd name="adj1" fmla="val 50000"/>
              <a:gd name="adj2" fmla="val 10198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a –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–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35268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267080"/>
            <a:ext cx="38124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4956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486400"/>
            <a:ext cx="1981080" cy="485640"/>
          </a:xfrm>
          <a:prstGeom prst="rightArrow">
            <a:avLst>
              <a:gd name="adj1" fmla="val 50000"/>
              <a:gd name="adj2" fmla="val 10198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i – 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– 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411480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20040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4956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4100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  <p:sndAc>
      <p:stSnd>
        <p:snd r:embed="rId1" name="arrow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rt the Spelling W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n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w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p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wh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bomb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rt the Spelling Wo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wh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   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1337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676520"/>
            <a:ext cx="7632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160020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600200"/>
            <a:ext cx="7632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1676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7200" y="4876560"/>
            <a:ext cx="8229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0:44:45Z</dcterms:created>
  <dc:creator> </dc:creator>
  <dc:description/>
  <dc:language>en-US</dc:language>
  <cp:lastModifiedBy>dyera</cp:lastModifiedBy>
  <dcterms:modified xsi:type="dcterms:W3CDTF">2007-09-26T15:11:35Z</dcterms:modified>
  <cp:revision>3</cp:revision>
  <dc:subject/>
  <dc:title>Consonant Digraphs</dc:title>
</cp:coreProperties>
</file>